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D151E-175B-43AF-BF04-3F551EA302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9A275-E4F4-4F5C-BE42-73D9FAAE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03424-2E72-4D11-B346-3F9777ED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22B37-942D-49EA-AB71-C4E778FC0D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D4D23-3E5E-4CFE-A5B9-26362D29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C84FA-F9FC-47ED-8EFE-F409AFC0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7245B-3E5F-42FE-895F-C0ADCE98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45DC3-848F-405C-9607-7FE9C930D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395CF-F0D1-4277-B069-4EEA828F9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B4A29-2BB2-4919-9FAE-DE6140BB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23FEE-10E2-49D9-A36A-7131C77C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834F2-909E-4D7E-BB7B-E111DA2D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D916-B184-4888-9B4F-FBE85CB5B53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2A10-D038-46ED-AC38-F9BA449C1565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九节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意识障碍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62C8-CF7B-4A61-872F-C6692639680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昏迷：是最严重的意识障碍，按其程度不同又可分为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轻度昏迷：大部分意识丧失，无自主运动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声、光刺激无反应，对疼痛刺激尚可出现痛苦表情或肢体退缩等防御反应吞咽反射、角膜反射、瞳孔对光反射、眼球运动等可存在，血压、脉搏、呼吸无明显变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中度昏迷：对周围事物及各种刺激均无反应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剧烈刺激可有防御反应。无眼球转动，角膜反射减弱，瞳孔对光反射迟钝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深度昏迷：意识完全丧失，全身肌肉松弛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任何刺激均无反应，深、浅反射均消失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。血压、脉搏、呼吸常有改变，二便失禁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8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9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5CC0-9A3F-4808-86BA-DA1BA636D0B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表现特点  意识障碍发生的时间，发病前有无诱因、病程长短、意识障碍程度及其进展等，根据患者对刺激的反应，回答问题的准确性、肢体活动情况、痛觉试验、神经反射等可以判断有无意识障碍及程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营养状况  询问每日进食量与食物类型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营养平衡，有无低血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入量  详细记录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小时出入液体量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出入液体总量是否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07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7FAF-56B3-4B3C-9B29-6A7C073A8B7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既往健康史  既往有无引起意识障碍相关的疾病史；有无癫痫等病史；有无类似发作史有无毒物或药物接触史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身体反应  评估生命体征、营养状况、意识状态、有无压疮等以及对患者生活质量的影响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如昏迷患者易并发肺部感染或尿路感染、口腔炎、结膜炎以及肢体肌肉挛缩畸形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14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15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8EF2-AD54-4B41-A343-2B719553C9B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21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急性意识障碍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4" name="Group 11"/>
          <p:cNvGrpSpPr/>
          <p:nvPr/>
        </p:nvGrpSpPr>
        <p:grpSpPr>
          <a:xfrm>
            <a:off x="971640" y="3789360"/>
            <a:ext cx="7230600" cy="863280"/>
            <a:chOff x="971640" y="3789360"/>
            <a:chExt cx="7230600" cy="863280"/>
          </a:xfrm>
        </p:grpSpPr>
        <p:sp>
          <p:nvSpPr>
            <p:cNvPr id="225" name="AutoShape 12"/>
            <p:cNvSpPr/>
            <p:nvPr/>
          </p:nvSpPr>
          <p:spPr>
            <a:xfrm>
              <a:off x="3184920" y="3789360"/>
              <a:ext cx="5017320" cy="78840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丧失所致排尿</a:t>
              </a:r>
              <a:r>
                <a:rPr b="1" lang="en-US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/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排便功能障碍有关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AutoShape 13"/>
            <p:cNvSpPr/>
            <p:nvPr/>
          </p:nvSpPr>
          <p:spPr>
            <a:xfrm>
              <a:off x="971640" y="3986280"/>
              <a:ext cx="2327400" cy="66636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尿障碍</a:t>
              </a:r>
              <a:r>
                <a:rPr b="1" lang="en-US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/</a:t>
              </a: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便失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7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28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29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清理呼吸道无效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2" name="AutoShape 19"/>
          <p:cNvSpPr/>
          <p:nvPr/>
        </p:nvSpPr>
        <p:spPr>
          <a:xfrm>
            <a:off x="3348000" y="5157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20"/>
          <p:cNvSpPr/>
          <p:nvPr/>
        </p:nvSpPr>
        <p:spPr>
          <a:xfrm>
            <a:off x="1042920" y="5300640"/>
            <a:ext cx="2241720" cy="5796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口腔黏膜受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35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9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脑出血有关；与肺性脑病、肝性脑病有关等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矩形 22"/>
          <p:cNvSpPr/>
          <p:nvPr/>
        </p:nvSpPr>
        <p:spPr>
          <a:xfrm>
            <a:off x="3571920" y="2928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咳嗽、吞咽反射减弱或消失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7"/>
          <p:cNvSpPr/>
          <p:nvPr/>
        </p:nvSpPr>
        <p:spPr>
          <a:xfrm>
            <a:off x="4426560" y="529992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丧失自理能力及唾液分泌减少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E769-5D1C-46E5-B9D0-EA779A9B8AA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44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营养失调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7" name="Group 11"/>
          <p:cNvGrpSpPr/>
          <p:nvPr/>
        </p:nvGrpSpPr>
        <p:grpSpPr>
          <a:xfrm>
            <a:off x="900000" y="4005360"/>
            <a:ext cx="7230960" cy="791640"/>
            <a:chOff x="900000" y="4005360"/>
            <a:chExt cx="7230960" cy="791640"/>
          </a:xfrm>
        </p:grpSpPr>
        <p:sp>
          <p:nvSpPr>
            <p:cNvPr id="248" name="AutoShape 12"/>
            <p:cNvSpPr/>
            <p:nvPr/>
          </p:nvSpPr>
          <p:spPr>
            <a:xfrm>
              <a:off x="3113640" y="4005360"/>
              <a:ext cx="5017320" cy="72324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   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障碍所致自主运动消失有关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   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障碍所致排便、排尿失禁有关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AutoShape 13"/>
            <p:cNvSpPr/>
            <p:nvPr/>
          </p:nvSpPr>
          <p:spPr>
            <a:xfrm>
              <a:off x="900000" y="4186080"/>
              <a:ext cx="2327400" cy="6109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有皮肤完整性受损的危险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0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51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52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有感染的危险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5" name="AutoShape 19"/>
          <p:cNvSpPr/>
          <p:nvPr/>
        </p:nvSpPr>
        <p:spPr>
          <a:xfrm>
            <a:off x="3348000" y="5157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20"/>
          <p:cNvSpPr/>
          <p:nvPr/>
        </p:nvSpPr>
        <p:spPr>
          <a:xfrm>
            <a:off x="1042920" y="5300640"/>
            <a:ext cx="2241720" cy="5796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有受伤害的危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7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58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2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低于机体需要量  与意识障碍不能正常进食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矩形 22"/>
          <p:cNvSpPr/>
          <p:nvPr/>
        </p:nvSpPr>
        <p:spPr>
          <a:xfrm>
            <a:off x="3571920" y="2928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咳嗽、吞咽反射减弱或消失有关；与侵入性导尿装置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24"/>
          <p:cNvSpPr/>
          <p:nvPr/>
        </p:nvSpPr>
        <p:spPr>
          <a:xfrm>
            <a:off x="4100760" y="52999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躁动不安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2451-BF74-42CD-86B2-F2A1776238C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内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因与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评估要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相关护理诊断与合作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A0B1-9FF4-4395-875A-5D6A409C419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AF5B-16F5-4796-AFD1-6448457B9F9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意识障碍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阐述意识障碍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意识障碍的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释意识障碍的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用所学知识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对患者做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护理评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正确做出护理诊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列出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DA57-C166-4C60-9B62-AD7A423D3C0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501D-6235-449E-B916-83270E1CFC2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3579-AAD8-472D-A9D6-563FE8C46E2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意识障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isturbance of consciousnes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指人对周围环境及自身状态的识别和察觉能力出现障碍，对外界环境刺激缺乏反应的一种精神状态。意识障碍多由于高级神经中枢功能活动受损而引起，可表现为嗜睡、意识模糊、昏睡和谵妄，严重的意识障碍为昏迷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CE33-7533-4F67-AD26-5033320C93B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颅脑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4462-BA90-4B2D-8B42-C44B606342B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3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AutoShape 18"/>
          <p:cNvSpPr/>
          <p:nvPr/>
        </p:nvSpPr>
        <p:spPr>
          <a:xfrm>
            <a:off x="1287360" y="2146320"/>
            <a:ext cx="6099120" cy="435780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：如脑炎、脑膜炎、脑脓肿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血管疾病：如脑出血、高血压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位性病变：如脑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伤：如脑震荡、脑挫伤、颅骨骨折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癫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2CCB-80E8-47EC-9261-581024E4519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4000" y="1428480"/>
            <a:ext cx="9144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身性疾病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0203-9F79-4E15-9E25-EE6ECD4F70F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4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3" name="AutoShape 20"/>
          <p:cNvSpPr/>
          <p:nvPr/>
        </p:nvSpPr>
        <p:spPr>
          <a:xfrm>
            <a:off x="1258920" y="1071720"/>
            <a:ext cx="7599240" cy="57862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感染：如败血症、中毒性肺炎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血管疾病：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ams-Stoke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分泌与代谢性疾病：如肝性脑病、尿毒症等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：安眠药、有机磷、乙醇、一氧化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物理性及缺氧性损害：如触电、溺水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水、电解质平衡紊乱：如低钠血症、低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226F-3CF7-4BEB-A31C-716BA4B2089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169C-9BCE-42AA-BD5F-A4E33CC4DF1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7800" y="163980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识由意识内容和其“开关”系统组成。意识“开关”系统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可激活大脑皮质并使之维持一定水平的兴奋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使机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处于觉醒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在此基础上产生意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脑皮质和皮质下网状结构功能完整时，意识活动是清醒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8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59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63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7759800" y="5464080"/>
            <a:ext cx="8744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282F-9B27-439D-949E-39F22EC7AF2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EC6B-0A5B-42CD-9582-3743C0E4A74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7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8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2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755640" y="5229360"/>
            <a:ext cx="1000080" cy="11523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3"/>
          <p:cNvSpPr/>
          <p:nvPr/>
        </p:nvSpPr>
        <p:spPr>
          <a:xfrm>
            <a:off x="2484360" y="2637000"/>
            <a:ext cx="2087640" cy="79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脑缺血、缺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2411280" y="3716280"/>
            <a:ext cx="2303640" cy="792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供给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2484360" y="4941720"/>
            <a:ext cx="2232000" cy="792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酶代谢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16"/>
          <p:cNvSpPr/>
          <p:nvPr/>
        </p:nvSpPr>
        <p:spPr>
          <a:xfrm flipV="1">
            <a:off x="1476360" y="3068280"/>
            <a:ext cx="43164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AutoShape 18"/>
          <p:cNvSpPr/>
          <p:nvPr/>
        </p:nvSpPr>
        <p:spPr>
          <a:xfrm>
            <a:off x="4859280" y="2852640"/>
            <a:ext cx="73080" cy="2808360"/>
          </a:xfrm>
          <a:custGeom>
            <a:avLst/>
            <a:gdLst>
              <a:gd name="textAreaLeft" fmla="*/ 0 w 73080"/>
              <a:gd name="textAreaRight" fmla="*/ 26280 w 7308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9"/>
          <p:cNvSpPr/>
          <p:nvPr/>
        </p:nvSpPr>
        <p:spPr>
          <a:xfrm>
            <a:off x="5076720" y="4149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5580000" y="2421000"/>
            <a:ext cx="792360" cy="36734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22"/>
          <p:cNvSpPr/>
          <p:nvPr/>
        </p:nvSpPr>
        <p:spPr>
          <a:xfrm>
            <a:off x="6516720" y="4221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23"/>
          <p:cNvSpPr/>
          <p:nvPr/>
        </p:nvSpPr>
        <p:spPr>
          <a:xfrm>
            <a:off x="8388360" y="2637000"/>
            <a:ext cx="576360" cy="2808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24"/>
          <p:cNvSpPr/>
          <p:nvPr/>
        </p:nvSpPr>
        <p:spPr>
          <a:xfrm>
            <a:off x="539640" y="3141720"/>
            <a:ext cx="720720" cy="1800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16"/>
          <p:cNvSpPr/>
          <p:nvPr/>
        </p:nvSpPr>
        <p:spPr>
          <a:xfrm>
            <a:off x="1547640" y="4076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1547640" y="4941720"/>
            <a:ext cx="50508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6948360" y="1052640"/>
            <a:ext cx="863640" cy="561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皮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构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害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Line 22"/>
          <p:cNvSpPr/>
          <p:nvPr/>
        </p:nvSpPr>
        <p:spPr>
          <a:xfrm>
            <a:off x="7885080" y="4149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C9BC-5172-4761-B361-DA3E15E4C67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嗜睡：患者处于一种持续性的病理性睡眠状态，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可被轻刺激唤醒，并能正确回答问题和做出各种反应，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但反应迟钝，当刺激去除后很快又入睡嗜睡是最轻的一种意识障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意识模糊：是较嗜睡为深的一种意识障碍。患者意识水平轻度降低，能保持简单的精神活动，但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对时间、地点、人物等定向能力发生障碍，思维和语言不连贯，可有错觉、幻觉、躁动不安、精神错乱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昏睡：是较严重的意识障碍。患者处于沉睡状态，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难于唤醒，虽在强烈刺激下（如大声呼喊其姓名、摇动其身体、压迫眶上神经等），可被唤醒，但很快又入睡，醒时答话含糊或答非所问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谵妄：是一种以中枢神经系统兴奋性增高为主的急性脑功能失调。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表现为意识模糊，感觉错乱（幻觉、错觉等），定向力丧失、躁动不安、言语杂乱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等。主要见于急性感染高热期，中枢神经系统疾病，肝性脑病、急性酒精中毒、某些药物中毒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0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1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8:19:40Z</dcterms:modified>
  <cp:revision>1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